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png" ContentType="image/png"/>
  <Override PartName="/ppt/media/image22.wmf" ContentType="image/x-wmf"/>
  <Override PartName="/ppt/media/image2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png" ContentType="image/png"/>
  <Override PartName="/ppt/media/image14.png" ContentType="image/png"/>
  <Override PartName="/ppt/media/image2.wmf" ContentType="image/x-wmf"/>
  <Override PartName="/ppt/media/image25.wmf" ContentType="image/x-wmf"/>
  <Override PartName="/ppt/media/image3.wmf" ContentType="image/x-wmf"/>
  <Override PartName="/ppt/media/image2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7134-1AC9-4F82-8A0E-907E9CB7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A35B-B788-4BB2-9BD9-1C3717FF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56A2-3897-4D57-B301-13C2F30AC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C8E-33EB-4E0D-AFCC-26D69C43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F44-8F89-44BA-A032-52044586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A62-29AD-4D43-B998-D287D2AF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FC7-9A0E-4295-B853-8753C303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542D-C15C-4181-B37E-6D0F9A22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26BB-2F6A-4ED5-9AEC-98EBD783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684-2DC2-4978-85F1-968BD4B6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1C5B-ABFB-4F7A-A399-90BF975E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6067-D2E2-4E34-8228-1A644C1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8460-00D7-4467-819A-EFF4BAB1F2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6.wmf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9.wmf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2.wmf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6.wmf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58672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J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28600" y="228600"/>
          <a:ext cx="4191120" cy="2436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"/>
                    <a:ext cx="419112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4457880" y="3809880"/>
          <a:ext cx="4686120" cy="27241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788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228600" y="3048120"/>
            <a:ext cx="3809880" cy="30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 Fallweg hängt quadratisch, die erreichte Geschwindigkeit proportional von der Fallzeit 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Beschleunigung (6,95m/s²) ist kleiner als beim freien Fall (9,81m/s²). Ein Teil der Energie wird von der die Rotation des Jo-Jo „aufgebraucht“. </a:t>
            </a:r>
            <a:br>
              <a:rPr sz="2000"/>
            </a:br>
            <a:br>
              <a:rPr sz="2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trick-Tob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4648320" y="95400"/>
            <a:ext cx="4267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ssballsch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181480" y="1371600"/>
            <a:ext cx="3962520" cy="17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er in horizontaler Richtung vom Fussball zurückgelegte Weg hängt linear von der Flugzeit a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Horizontalgeschwindigkeit ist ca. 22m/s=80km/h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Kath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990720"/>
          <a:ext cx="4581360" cy="2781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990720"/>
                    <a:ext cx="45813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267080" y="3733920"/>
          <a:ext cx="4676760" cy="27813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733920"/>
                    <a:ext cx="4676760" cy="27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" descr=""/>
          <p:cNvPicPr/>
          <p:nvPr/>
        </p:nvPicPr>
        <p:blipFill>
          <a:blip r:embed="rId7"/>
          <a:stretch/>
        </p:blipFill>
        <p:spPr>
          <a:xfrm>
            <a:off x="457200" y="38862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6095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Fussballschu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91440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17524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2666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380988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5486400" y="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1676520" y="2362320"/>
            <a:ext cx="5562360" cy="41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ket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228600" y="3657600"/>
          <a:ext cx="5029200" cy="2795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3657600"/>
                    <a:ext cx="5029200" cy="279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228600" y="990720"/>
          <a:ext cx="5029200" cy="2617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990720"/>
                    <a:ext cx="5029200" cy="261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410080" y="152280"/>
            <a:ext cx="3276720" cy="32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Bahnkurve ist eine Parabel. Die Geschwindigkeit in y-Richtung hängt linear von der Zeit ab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Anfangs steigt er mit 5m/s=18km/h. Nach 0,54s hat er maximale Höhe (3,7m). Danach sinkt der Ball wieder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gemessene Fallbeschleu-nigung ist –10,6m/s²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Jen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334120" y="373392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W-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181480" y="762120"/>
            <a:ext cx="327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Geschwindigkeit beim Start steigt linear (Beschleunigung 1,9m/s²)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 zurückgelegte Weg hängt quadratisch von der Zeit ab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anca, Jess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28600" y="685800"/>
          <a:ext cx="4676760" cy="2743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685800"/>
                    <a:ext cx="46767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228600" y="3809880"/>
          <a:ext cx="4676760" cy="2600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3809880"/>
                    <a:ext cx="467676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5029200" y="32767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ferdesp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4572000" y="1371600"/>
            <a:ext cx="327672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as Pferd springt mit 4,1m/s=15km/h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Sprunghöhe am Steigbügel ist 20c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Bahnkurve ist „nicht wirklich“ eine Parabel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laine M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4038480"/>
          <a:ext cx="4114800" cy="2413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4038480"/>
                    <a:ext cx="4114800" cy="24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4495680" y="4030560"/>
          <a:ext cx="4343400" cy="24145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95680" y="4030560"/>
                    <a:ext cx="4343400" cy="24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380880" y="819000"/>
            <a:ext cx="388620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4038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ferdesp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4572000" y="1371600"/>
            <a:ext cx="3276720" cy="23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s Pferd springt mit 4,1m/s=15km/h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Sprunghöhe am Steigbügel ist 20cm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Die Bahnkurve ist „nicht wirklich“ eine Parabel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Elaine Mar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22096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62360" y="228600"/>
            <a:ext cx="3276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el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962520" y="3809880"/>
          <a:ext cx="4686120" cy="27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3809880"/>
                    <a:ext cx="468612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029200" y="3610080"/>
          <a:ext cx="4114800" cy="3028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610080"/>
                    <a:ext cx="4114800" cy="30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52280" y="152280"/>
          <a:ext cx="4876920" cy="2756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280" y="152280"/>
                    <a:ext cx="4876920" cy="27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486400" y="762120"/>
            <a:ext cx="365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Jessis Geschwindigkeit steigt linear, die Beschleu-nigung ist 2,2m/s²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r zurückgelegte Weg hängt quadratisch von der Zeit 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7"/>
          <a:stretch/>
        </p:blipFill>
        <p:spPr>
          <a:xfrm>
            <a:off x="228600" y="3124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08:51:31Z</dcterms:created>
  <dc:creator>Riemer</dc:creator>
  <dc:description/>
  <dc:language>en-US</dc:language>
  <cp:lastModifiedBy>Riemer</cp:lastModifiedBy>
  <dcterms:modified xsi:type="dcterms:W3CDTF">2006-03-10T13:16:52Z</dcterms:modified>
  <cp:revision>15</cp:revision>
  <dc:subject/>
  <dc:title>JoJo</dc:title>
</cp:coreProperties>
</file>