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CBDE-2ACB-481D-AE9C-E0A4B85180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D49-DAA9-4528-A2B2-891DFD399D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1-Barb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C0BF-870D-4EB5-A621-41A24DF7F6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-Mar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3F7-DDF9-498C-B0DE-990C52B912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L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C272-F836-4522-BFEB-EC7B263FC0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-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48A-D21B-4D78-83D1-D4EB1E39BB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-Be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DA43-8EBE-466E-86E9-58ACCDCDFD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-Mad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8E73-6A09-428F-9CEC-83E55F910B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-Marti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5A1-A5B0-4F52-B17E-1E21BDB399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-Leon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5F8-EEBE-434C-A486-C7760D3AD6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-A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8236-CC67-4FB8-933E-98A6C36D4F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-Ci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934A-0B28-40B7-8948-85889BF995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-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A5F-FCEC-4A78-94B5-F8E786EA43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2-El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6BF-4495-433E-863D-0AC3ADDA17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-Ol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0FC-97D6-4B52-91A1-4BB93A7A29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-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B0E6-D80F-411A-B829-9220BF5411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-Friede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929B-7E71-40A8-990B-07CE59BCA3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-Fra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819-8A75-4495-800E-082EC4557D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-Mo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B0B-D45D-47CF-B1A6-3A17342D24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-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DEE2-B7D1-44A7-9F13-DE72BA3929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-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574-E62A-4CE3-9E30-4A2E6DB4F4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-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F88-4AA8-4C62-8B95-FD3194ACBC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-L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63D-0820-46D3-843C-DFB96325BC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-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1954-51A5-4A80-B7C8-A4E4A47BB3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3-N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033-402E-4E9F-AE91-D9ACC15BB5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-Hanne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76E-CB80-494C-BDB0-5A98F416AD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Otf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3D51-2CE2-48B0-A568-1E763BA181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-Er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46DB-205B-4291-817E-B346B8404F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6-Di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B8F-B32A-4E51-84AD-6535F2FC29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7-Mar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C59-D912-461A-8083-A01C7380FD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8-Nikol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676-BE19-4C43-BFA7-A7AC6D655E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9-Ferdin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529-588A-49BF-8B6E-897578E6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8E9-BF45-4E29-8CC8-726EB9F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CEA-AF45-4F67-AD07-34F1A72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DCF-EE00-496D-A67B-99EE97F4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C89-F664-45EF-AC25-560E5790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118-DA07-46FF-9301-438E273D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716-137E-4F8E-8B14-3D09EA2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829-2EEF-4955-BA77-C52CBBEF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B57-DE34-4D96-8B10-CB3983B1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FDC-B62E-4787-AD61-D14B7D2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244-2D32-4A96-B0A1-B218FD1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E35-9FEC-4A67-A8E7-C84EC6F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61E-6DC9-4764-9C6E-2CA45B7357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1280" y="669960"/>
            <a:ext cx="8532720" cy="6188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40720" cy="595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451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9280" y="658800"/>
            <a:ext cx="8748720" cy="6199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4092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75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032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8642160" cy="6102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58720" y="480960"/>
            <a:ext cx="8585280" cy="637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928000" cy="5021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08000" y="919080"/>
            <a:ext cx="8856720" cy="498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187280" y="231840"/>
            <a:ext cx="7956720" cy="662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1454040"/>
            <a:ext cx="9144000" cy="5403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346040"/>
            <a:ext cx="9021600" cy="5511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770040" y="189000"/>
            <a:ext cx="8373960" cy="666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79280" y="695160"/>
            <a:ext cx="8964720" cy="616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966960"/>
            <a:ext cx="9144000" cy="5891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866880" y="189000"/>
            <a:ext cx="8277120" cy="6669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24000" y="674640"/>
            <a:ext cx="8820000" cy="5718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993600"/>
            <a:ext cx="9144000" cy="5864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39640" y="684360"/>
            <a:ext cx="8604360" cy="617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179280" y="1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70344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9036000" cy="5900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8000" y="1066680"/>
            <a:ext cx="9036000" cy="4781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954000"/>
            <a:ext cx="9144000" cy="4950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79280" y="1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6262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08:45:01Z</dcterms:created>
  <dc:creator>Wolfgang Riemer</dc:creator>
  <dc:description/>
  <dc:language>en-US</dc:language>
  <cp:lastModifiedBy>Wolfgang Riemer</cp:lastModifiedBy>
  <dcterms:modified xsi:type="dcterms:W3CDTF">2013-10-01T06:53:04Z</dcterms:modified>
  <cp:revision>53</cp:revision>
  <dc:subject/>
  <dc:title>Folie 1</dc:title>
</cp:coreProperties>
</file>